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4F76-995B-49DA-A32A-9D562F00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EACA-CD04-46F7-98F8-5A2F54CF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B267-0D02-46A4-8540-61F20C53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38EA-0449-4796-A16D-050EFCB7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C2B2-5F7F-4A22-A6DE-E2A28D88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DE97-850C-4D47-B2F0-4D13BD72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C992-B22A-49A8-ABA5-A18E6E50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8DD9-8CF3-4685-BA09-4F5DB68C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4E31-5E90-496D-BD7B-5A362CEC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FC95-FF05-4CA7-AB6E-F01728EA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E78F-1A03-4ABA-B20A-929D46B8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ADC6-28B6-4C62-ADCF-B0424316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D467-9644-45E5-9BCF-790608DF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8E70-CA1E-4753-BF42-596A066D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D09D-2415-4839-9AEB-AE05590D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3561-69CE-4914-9BC1-F1DEB0059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44E4-DCCC-4AA0-A833-6810F157C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F0D0-AFF5-4A71-8082-853C739E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D0A8-4116-4C32-84F4-E0320DEC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64A0-79E0-4FB1-9CA8-9BCB019F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D9F1-DD2F-4678-B468-E9E84DD8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B311-C5D8-466C-82CC-59B8DCF0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201B-81BA-41D4-821F-80863AFD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8631-2CD2-4115-BEE9-BE074400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987F-FDF5-46BF-ABF1-7F43E01F5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D057-ADB8-4DF4-B19D-68431D535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road-to-the-isles.org.uk/highland-cattle.jpg&amp;imgrefurl=http://www.road-to-the-isles.org.uk/beauty.html&amp;h=176&amp;w=289&amp;sz=17&amp;tbnid=iYYLrzVL4ooJ:&amp;tbnh=66&amp;tbnw=108&amp;start=11&amp;prev=/images%3Fq%3Dcattle%26hl%3Den%26lr%3D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erc.si.edu/forest_ecology/images/cornfield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ating Lower on the Food Cha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71600" y="3505320"/>
            <a:ext cx="6248520" cy="2835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58000" y="3200400"/>
            <a:ext cx="2286000" cy="1905120"/>
          </a:xfrm>
          <a:prstGeom prst="wedgeEllipseCallout">
            <a:avLst>
              <a:gd name="adj1" fmla="val -70208"/>
              <a:gd name="adj2" fmla="val 62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86600" y="358128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hh, girls!!    I want to hear about this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ot Petroleu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3505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s consume nearly as much fossil fuels at the supermarket as at the gas pum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ypical American burns about 530 gallons of gas each yea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riv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ating a meat based di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obbles up an additional 400  gallons of o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019920" y="4648320"/>
            <a:ext cx="281916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acre of corn requires 140 gallons of oil to produ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ting corn directly maximizes the energy inves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corn goes to livestock, only about a fifth of the protein is returned as food, four-fifths is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4800600"/>
            <a:ext cx="1905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dditional tid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quarter of all antibiotics produced are used in the U.S. for food anim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ign originated veggies may have been sprayed with D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.A. water is full of DDT, washed off from foreign fruits and vegg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DT is stored in fat – linked to breast cancer (90% breast cancer patients have DDT in their syste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on of Concerned Scientists: List of Top Things You Can Do to Help the Pla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1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rive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2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at less red meat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iry 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3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erve on heating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oling costs in th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w products are the wors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4571640"/>
            <a:ext cx="8077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arly  87% of our agricultural land (50% for cows alone!) is engaged in animal production for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5790960" cy="2971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781680" y="1143000"/>
            <a:ext cx="1828800" cy="1600200"/>
          </a:xfrm>
          <a:prstGeom prst="wedgeEllipseCallout">
            <a:avLst>
              <a:gd name="adj1" fmla="val -43750"/>
              <a:gd name="adj2" fmla="val 471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BEG YOUR PARD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U.S. Crop % that goes to feed co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0 -  90% of our soybeans, oats, wheat and c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4038480" cy="4379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09480" y="4572000"/>
            <a:ext cx="5791320" cy="1143000"/>
          </a:xfrm>
          <a:prstGeom prst="wedgeEllipseCallout">
            <a:avLst>
              <a:gd name="adj1" fmla="val 47726"/>
              <a:gd name="adj2" fmla="val 47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!  You have a problem with th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w ef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1536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takes 16 lbs of wheat to make 1 lb of c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00 gallons of water per lb of cow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A lb of soybeans only takes about 260 gallons of w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2193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typical North American Diet requires twice as much water to produce as less meat-intensive diets common in Asia and Eur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ting  lower on food chain : same water could feed double the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ing animal products use ½ the water in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dairy cow drinks about 29 gallons of water a day, and needs 40 additional gallons for sanitation, producing only 8 gallons of mi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ot Wa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ollution (Deep Doo-Doo!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A : agricultural runoff = primary pollution source for 60% of U.S. polluted rivers and strea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 ag. = 130 times more than human waste and equivalent to 5 tons per per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ITS NOT TREATED BY A SEWAGE TREATMENT PLA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nure from a 200-head dairy operation produces as much nitrogen as sewage from a town of 10,000 peop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airy cow produces 120 lbs of waste a day, 12 times as much as a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total of 22 tons per  cow per y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629400" y="5029200"/>
            <a:ext cx="22860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ot Tre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ting a plant based diet personally saves an acre of trees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0 million acres of U.S. forests have been cleared for livestock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2133720"/>
            <a:ext cx="32004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ur foreign suppl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out Central and South America, grazing and feed grain production are the leading economic forces behind rainforest destruc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quarter lb hamburger costs Mother Nature 55 square feet of forest l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is the world’s top beef impor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ast food restaurant can claim to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y from a U.S. supplier bu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rs are not required to declare the 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origin of their produ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086600" y="762120"/>
            <a:ext cx="1728720" cy="1670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Rainforest Beef Header Graphic"/>
          <p:cNvPicPr/>
          <p:nvPr/>
        </p:nvPicPr>
        <p:blipFill>
          <a:blip r:embed="rId2"/>
          <a:stretch/>
        </p:blipFill>
        <p:spPr>
          <a:xfrm>
            <a:off x="5562720" y="5213520"/>
            <a:ext cx="358128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22:10:32Z</dcterms:created>
  <dc:creator>tosborne</dc:creator>
  <dc:description/>
  <dc:language>en-US</dc:language>
  <cp:lastModifiedBy>tosborne</cp:lastModifiedBy>
  <dcterms:modified xsi:type="dcterms:W3CDTF">2010-10-22T20:49:37Z</dcterms:modified>
  <cp:revision>15</cp:revision>
  <dc:subject/>
  <dc:title>Eating Lower on the Food Chain</dc:title>
</cp:coreProperties>
</file>